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FDB43-7945-45EB-8C75-255DD03C2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95E2E-3E83-46A8-9FAB-55347E1CB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A875E-6BE4-4292-B364-9F757E353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914EA-4212-4ED0-B685-861AAA0E4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C5540-3EA4-4ECF-AB52-EDC2855AF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0DEEE-F5A6-4813-AF9E-45AE96AF8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816AE-A25A-4C5D-B04B-92BBF9476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F1FB9-8AC6-46E0-A393-3739F54C8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3593F-523E-4C23-A953-19A18A055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F8DF6-74E9-4461-B2CA-5A019600C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9823A-2D44-44A3-959A-45DD6A8B4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98DC8-2B89-4FFD-B167-9503C043E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4A6DB-6382-421E-BA9F-5FBBD2D88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98B7F-4580-44DA-B60D-90E02A8FB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26CAC-32F1-4576-8E00-7CACD1781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1C758-790F-4D17-9F82-D453B690B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A14BE-CA4D-49B1-9F35-F15BEC092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0D3632A-6C9C-400E-AB50-5A6704984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6293D1C-0441-4B6A-9064-1C0009C7F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C19B772-A311-4B57-A0D0-7115CFCC0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8DF1C1-967C-4102-B2A1-EC625BCBB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3AC4BA8-7A62-4A43-96F3-D9B3169B6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22498-B8C1-49EB-8148-2B700AD8E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6AA2998-1F74-4F3C-A506-AEC83F6CB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F38C36E-F225-48A9-90E4-DBD18F263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E3034A9-6B4C-4C9A-9A6B-891345590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E587AC0-24D2-47B6-B732-1F4A3162B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4A120B-6258-4B82-B3E3-5055A6BCC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0706E0D-D222-4C4E-BA02-204736535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96CCE62-8A57-4A5C-84E6-B8CAAE07B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BBD29A-2F60-4053-8D48-188D10F07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3A83A9-77C2-4450-B2A8-148B65F06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726B7A-5FCE-414A-8A2E-A391B886C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148BF-9F5C-454D-A246-D58534F55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8F78AE-DFDF-4D68-B6BB-C011E80CE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D55DAB-B29E-4D8C-B27E-AED07EFCD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F7A08C-8A57-42F9-A8E4-3CD70FA48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F51517-A0AE-4AC0-9C1B-74A262ADB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72D9C7-DDD3-48C6-8E82-1874900FC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D3B353-7A1A-48FF-9278-E7DCBE42A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D64419-280E-4F7E-BAD2-7807AB5EF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8CA710-496D-4279-B635-F41E14C3B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396CBF-930B-4788-BB2E-B46A522F9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DC79C-4568-439F-9111-1AAECB2A5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A13B5-44C7-4632-B203-FA0650D50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E561C-B04A-49C7-A5E2-D0024D8F1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C99D6-3B9B-407E-9943-F0126FB03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D6DB1-8437-4C50-9D3F-F88975831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1"/>
          <p:cNvGrpSpPr/>
          <p:nvPr/>
        </p:nvGrpSpPr>
        <p:grpSpPr>
          <a:xfrm>
            <a:off x="-567360" y="0"/>
            <a:ext cx="10459440" cy="7117200"/>
            <a:chOff x="-567360" y="0"/>
            <a:chExt cx="10459440" cy="7117200"/>
          </a:xfrm>
        </p:grpSpPr>
        <p:grpSp>
          <p:nvGrpSpPr>
            <p:cNvPr id="1" name="Group 44"/>
            <p:cNvGrpSpPr/>
            <p:nvPr/>
          </p:nvGrpSpPr>
          <p:grpSpPr>
            <a:xfrm>
              <a:off x="77400" y="0"/>
              <a:ext cx="9144360" cy="6858000"/>
              <a:chOff x="77400" y="0"/>
              <a:chExt cx="914436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77400" y="0"/>
                <a:ext cx="2514600" cy="6858000"/>
                <a:chOff x="77400" y="0"/>
                <a:chExt cx="2514600" cy="6858000"/>
              </a:xfrm>
            </p:grpSpPr>
            <p:sp>
              <p:nvSpPr>
                <p:cNvPr id="3" name="Rectangle 112"/>
                <p:cNvSpPr/>
                <p:nvPr/>
              </p:nvSpPr>
              <p:spPr>
                <a:xfrm>
                  <a:off x="9918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4" name="Rectangle 2"/>
                <p:cNvSpPr/>
                <p:nvPr/>
              </p:nvSpPr>
              <p:spPr>
                <a:xfrm>
                  <a:off x="774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5" name="Rectangle 3"/>
                <p:cNvSpPr/>
                <p:nvPr/>
              </p:nvSpPr>
              <p:spPr>
                <a:xfrm>
                  <a:off x="306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6" name="Group 5"/>
              <p:cNvGrpSpPr/>
              <p:nvPr/>
            </p:nvGrpSpPr>
            <p:grpSpPr>
              <a:xfrm>
                <a:off x="500040" y="0"/>
                <a:ext cx="2514600" cy="6858000"/>
                <a:chOff x="500040" y="0"/>
                <a:chExt cx="2514600" cy="6858000"/>
              </a:xfrm>
            </p:grpSpPr>
            <p:sp>
              <p:nvSpPr>
                <p:cNvPr id="7" name="Rectangle 109"/>
                <p:cNvSpPr/>
                <p:nvPr/>
              </p:nvSpPr>
              <p:spPr>
                <a:xfrm>
                  <a:off x="14144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" name="Rectangle 110"/>
                <p:cNvSpPr/>
                <p:nvPr/>
              </p:nvSpPr>
              <p:spPr>
                <a:xfrm>
                  <a:off x="5000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" name="Rectangle 111"/>
                <p:cNvSpPr/>
                <p:nvPr/>
              </p:nvSpPr>
              <p:spPr>
                <a:xfrm>
                  <a:off x="728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0" name="Group 9"/>
              <p:cNvGrpSpPr/>
              <p:nvPr/>
            </p:nvGrpSpPr>
            <p:grpSpPr>
              <a:xfrm>
                <a:off x="6707160" y="0"/>
                <a:ext cx="2514600" cy="6858000"/>
                <a:chOff x="6707160" y="0"/>
                <a:chExt cx="2514600" cy="6858000"/>
              </a:xfrm>
            </p:grpSpPr>
            <p:sp>
              <p:nvSpPr>
                <p:cNvPr id="11" name="Rectangle 106"/>
                <p:cNvSpPr/>
                <p:nvPr/>
              </p:nvSpPr>
              <p:spPr>
                <a:xfrm rot="10800000">
                  <a:off x="67071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2" name="Rectangle 107"/>
                <p:cNvSpPr/>
                <p:nvPr/>
              </p:nvSpPr>
              <p:spPr>
                <a:xfrm rot="10800000">
                  <a:off x="87645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3" name="Rectangle 108"/>
                <p:cNvSpPr/>
                <p:nvPr/>
              </p:nvSpPr>
              <p:spPr>
                <a:xfrm rot="10800000">
                  <a:off x="82314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14" name="Rectangle 103"/>
              <p:cNvSpPr/>
              <p:nvPr/>
            </p:nvSpPr>
            <p:spPr>
              <a:xfrm>
                <a:off x="38876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5" name="Rectangle 104"/>
              <p:cNvSpPr/>
              <p:nvPr/>
            </p:nvSpPr>
            <p:spPr>
              <a:xfrm>
                <a:off x="29732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6" name="Rectangle 105"/>
              <p:cNvSpPr/>
              <p:nvPr/>
            </p:nvSpPr>
            <p:spPr>
              <a:xfrm>
                <a:off x="32018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7" name="Freeform 43"/>
            <p:cNvSpPr/>
            <p:nvPr/>
          </p:nvSpPr>
          <p:spPr>
            <a:xfrm>
              <a:off x="648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" name="Freeform 44"/>
            <p:cNvSpPr/>
            <p:nvPr/>
          </p:nvSpPr>
          <p:spPr>
            <a:xfrm>
              <a:off x="648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" name="Freeform 45"/>
            <p:cNvSpPr/>
            <p:nvPr/>
          </p:nvSpPr>
          <p:spPr>
            <a:xfrm>
              <a:off x="5364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" name="Freeform 46"/>
            <p:cNvSpPr/>
            <p:nvPr/>
          </p:nvSpPr>
          <p:spPr>
            <a:xfrm>
              <a:off x="648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" name="Freeform 48"/>
            <p:cNvSpPr/>
            <p:nvPr/>
          </p:nvSpPr>
          <p:spPr>
            <a:xfrm>
              <a:off x="221436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" name="Hexagon 49"/>
            <p:cNvSpPr/>
            <p:nvPr/>
          </p:nvSpPr>
          <p:spPr>
            <a:xfrm rot="1800000">
              <a:off x="3072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" name="Hexagon 50"/>
            <p:cNvSpPr/>
            <p:nvPr/>
          </p:nvSpPr>
          <p:spPr>
            <a:xfrm rot="1800000">
              <a:off x="379692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" name="Hexagon 51"/>
            <p:cNvSpPr/>
            <p:nvPr/>
          </p:nvSpPr>
          <p:spPr>
            <a:xfrm rot="1800000">
              <a:off x="380628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5" name="Hexagon 52"/>
            <p:cNvSpPr/>
            <p:nvPr/>
          </p:nvSpPr>
          <p:spPr>
            <a:xfrm rot="1800000">
              <a:off x="305388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6" name="Hexagon 53"/>
            <p:cNvSpPr/>
            <p:nvPr/>
          </p:nvSpPr>
          <p:spPr>
            <a:xfrm rot="1800000">
              <a:off x="453996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" name="Freeform 54"/>
            <p:cNvSpPr/>
            <p:nvPr/>
          </p:nvSpPr>
          <p:spPr>
            <a:xfrm rot="1800000">
              <a:off x="-30492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" name="Hexagon 55"/>
            <p:cNvSpPr/>
            <p:nvPr/>
          </p:nvSpPr>
          <p:spPr>
            <a:xfrm rot="1800000">
              <a:off x="10080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" name="Hexagon 56"/>
            <p:cNvSpPr/>
            <p:nvPr/>
          </p:nvSpPr>
          <p:spPr>
            <a:xfrm rot="1800000">
              <a:off x="12960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0" name="Hexagon 57"/>
            <p:cNvSpPr/>
            <p:nvPr/>
          </p:nvSpPr>
          <p:spPr>
            <a:xfrm rot="1800000">
              <a:off x="8535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1" name="Hexagon 58"/>
            <p:cNvSpPr/>
            <p:nvPr/>
          </p:nvSpPr>
          <p:spPr>
            <a:xfrm rot="1800000">
              <a:off x="158688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2" name="Hexagon 59"/>
            <p:cNvSpPr/>
            <p:nvPr/>
          </p:nvSpPr>
          <p:spPr>
            <a:xfrm rot="1800000">
              <a:off x="1605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3" name="Hexagon 94"/>
            <p:cNvSpPr/>
            <p:nvPr/>
          </p:nvSpPr>
          <p:spPr>
            <a:xfrm rot="1800000">
              <a:off x="87264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" name="Hexagon 95"/>
            <p:cNvSpPr/>
            <p:nvPr/>
          </p:nvSpPr>
          <p:spPr>
            <a:xfrm rot="1800000">
              <a:off x="688464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" name="Hexagon 96"/>
            <p:cNvSpPr/>
            <p:nvPr/>
          </p:nvSpPr>
          <p:spPr>
            <a:xfrm rot="1800000">
              <a:off x="762768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" name="Hexagon 97"/>
            <p:cNvSpPr/>
            <p:nvPr/>
          </p:nvSpPr>
          <p:spPr>
            <a:xfrm rot="1800000">
              <a:off x="762768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7" name="Freeform 98"/>
            <p:cNvSpPr/>
            <p:nvPr/>
          </p:nvSpPr>
          <p:spPr>
            <a:xfrm rot="1800000">
              <a:off x="838548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8" name="Freeform 99"/>
            <p:cNvSpPr/>
            <p:nvPr/>
          </p:nvSpPr>
          <p:spPr>
            <a:xfrm rot="1800000">
              <a:off x="838512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9" name="Rectangle 65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Rectangle 69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" name="Rectangle 7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1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2"/>
          </p:nvPr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3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C42F5-6F63-4347-B096-D4B7EEAFEB5D}" type="slidenum">
              <a:rPr b="0" lang="ru-RU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Group 42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84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85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86" name="Rectangle 114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7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8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89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90" name="Rectangle 84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1" name="Rectangle 85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2" name="Rectangle 113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93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94" name="Rectangle 77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5" name="Rectangle 78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6" name="Rectangle 80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97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98" name="Rectangle 75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99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00" name="Freeform 44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1" name="Freeform 47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2" name="Freeform 48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3" name="Freeform 50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" name="Freeform 51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" name="Hexagon 52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" name="Hexagon 53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7" name="Hexagon 54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8" name="Hexagon 55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9" name="Hexagon 56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0" name="Freeform 57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" name="Hexagon 58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" name="Hexagon 59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" name="Hexagon 60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4" name="Hexagon 61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5" name="Hexagon 62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6" name="Hexagon 63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7" name="Hexagon 64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8" name="Hexagon 65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9" name="Hexagon 66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0" name="Freeform 67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1" name="Freeform 68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22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3" name="Rectangle 46"/>
          <p:cNvSpPr/>
          <p:nvPr/>
        </p:nvSpPr>
        <p:spPr>
          <a:xfrm>
            <a:off x="4649760" y="-22320"/>
            <a:ext cx="3505320" cy="231300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" name="Rectangle 49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" name="Rectangle 88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738320" y="1515960"/>
            <a:ext cx="213372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5303880" y="5719680"/>
            <a:ext cx="2830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4649760" y="5719680"/>
            <a:ext cx="642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4c6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3C859-C1FC-43F7-811F-CB856D283526}" type="slidenum">
              <a:rPr b="0" lang="ru-RU" sz="1200" spc="-1" strike="noStrike">
                <a:solidFill>
                  <a:srgbClr val="94c6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43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168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169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170" name="Rectangle 83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1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2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73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174" name="Rectangle 80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5" name="Rectangle 81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6" name="Rectangle 82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77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178" name="Rectangle 77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9" name="Rectangle 78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80" name="Rectangle 79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181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82" name="Rectangle 75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83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84" name="Freeform 46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5" name="Freeform 47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6" name="Freeform 48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7" name="Freeform 49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8" name="Freeform 50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9" name="Hexagon 51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0" name="Hexagon 52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1" name="Hexagon 53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2" name="Hexagon 54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3" name="Hexagon 55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4" name="Freeform 58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5" name="Hexagon 59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6" name="Hexagon 61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7" name="Hexagon 62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8" name="Hexagon 63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9" name="Hexagon 64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0" name="Hexagon 65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1" name="Hexagon 66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2" name="Hexagon 67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3" name="Hexagon 68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4" name="Freeform 69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5" name="Freeform 70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06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7" name="Rectangle 56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8" name="Rectangle 57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9" name="Rectangle 60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7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sldNum" idx="8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B963F-5B11-4DAF-BD37-F563BB2188C8}" type="slidenum">
              <a:rPr b="0" lang="ru-RU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ftr" idx="9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Group 43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252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253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254" name="Rectangle 86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5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6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257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258" name="Rectangle 83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9" name="Rectangle 84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0" name="Rectangle 85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261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262" name="Rectangle 80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3" name="Rectangle 81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4" name="Rectangle 82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265" name="Rectangle 77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266" name="Rectangle 78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267" name="Rectangle 79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268" name="Freeform 45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69" name="Freeform 46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0" name="Freeform 47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1" name="Freeform 48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2" name="Freeform 49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3" name="Hexagon 50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4" name="Hexagon 51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5" name="Hexagon 59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6" name="Hexagon 60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7" name="Hexagon 61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8" name="Freeform 62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9" name="Hexagon 63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0" name="Hexagon 64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1" name="Hexagon 65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2" name="Hexagon 66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3" name="Hexagon 67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4" name="Hexagon 68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5" name="Hexagon 69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6" name="Hexagon 70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7" name="Hexagon 71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8" name="Freeform 72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9" name="Freeform 73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90" name="Rectangle 93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1" name="Rectangle 10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2" name="Rectangle 101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1f1f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3" name="Rectangle 104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0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11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12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4A8D0-AD6F-4255-9B71-5EB4469D7F21}" type="slidenum">
              <a:rPr b="0" lang="ru-RU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79280" y="620280"/>
            <a:ext cx="4321440" cy="170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b0f0"/>
                </a:solidFill>
                <a:latin typeface="Century Gothic"/>
              </a:rPr>
              <a:t>Занимательный урок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539640" y="3716280"/>
            <a:ext cx="7777440" cy="203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24242"/>
                </a:solidFill>
                <a:latin typeface="Century Gothic"/>
              </a:rPr>
              <a:t>Урок-вечер </a:t>
            </a:r>
            <a:r>
              <a:rPr b="1" lang="ru-RU" sz="3200" spc="-1" strike="noStrike">
                <a:solidFill>
                  <a:srgbClr val="424242"/>
                </a:solidFill>
                <a:latin typeface="Century Gothic"/>
              </a:rPr>
              <a:t>«Учёные-педагоги»</a:t>
            </a:r>
            <a:r>
              <a:rPr b="1" lang="ru-RU" sz="2400" spc="-1" strike="noStrike">
                <a:solidFill>
                  <a:srgbClr val="424242"/>
                </a:solidFill>
                <a:latin typeface="Century Gothic"/>
              </a:rPr>
              <a:t>, 7 класс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24242"/>
                </a:solidFill>
                <a:latin typeface="Century Gothic"/>
              </a:rPr>
              <a:t>Презентация урока учителя физики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24242"/>
                </a:solidFill>
                <a:latin typeface="Century Gothic"/>
              </a:rPr>
              <a:t>Кузьминой Л. В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7" name="TextBox 1"/>
          <p:cNvSpPr/>
          <p:nvPr/>
        </p:nvSpPr>
        <p:spPr>
          <a:xfrm>
            <a:off x="4932360" y="428760"/>
            <a:ext cx="316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Century Gothic"/>
              </a:rPr>
              <a:t>МБВ(С)ОУ   «О(С)ОШ №1»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Century Gothic"/>
              </a:rPr>
              <a:t>Г. Калуги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4c600"/>
                </a:solidFill>
                <a:latin typeface="Century Gothic"/>
              </a:rPr>
              <a:t>Экспериментальное: «Динамометр» – 10 баллов.  </a:t>
            </a:r>
            <a:br>
              <a:rPr sz="3600"/>
            </a:br>
            <a:r>
              <a:rPr b="1" lang="ru-RU" sz="3600" spc="-1" strike="noStrike">
                <a:solidFill>
                  <a:srgbClr val="94c600"/>
                </a:solidFill>
                <a:latin typeface="Century Gothic"/>
              </a:rPr>
              <a:t> </a:t>
            </a:r>
            <a:br>
              <a:rPr sz="3600"/>
            </a:b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1042560" y="2313000"/>
            <a:ext cx="3419640" cy="349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Дано: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брусок, линейка, динамометр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Найти: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силу тяжести,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массу бруска, объём  бруска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4645080" y="2313000"/>
            <a:ext cx="3419280" cy="349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25956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e3d2d"/>
                </a:solidFill>
                <a:latin typeface="Century Gothic"/>
              </a:rPr>
              <a:t>Дано: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25800" indent="-25956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ru-RU" sz="2200" spc="-1" strike="noStrike">
                <a:solidFill>
                  <a:srgbClr val="3e3d2d"/>
                </a:solidFill>
                <a:latin typeface="Century Gothic"/>
              </a:rPr>
              <a:t>брусок, линейка, динамометр.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25800" indent="-25956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ru-RU" sz="2200" spc="-1" strike="noStrike">
                <a:solidFill>
                  <a:srgbClr val="3e3d2d"/>
                </a:solidFill>
                <a:latin typeface="Century Gothic"/>
              </a:rPr>
              <a:t>Найти: 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25800" indent="-25956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e3d2d"/>
                </a:solidFill>
                <a:latin typeface="Century Gothic"/>
              </a:rPr>
              <a:t>силу упругости, растяжение пружины, коэффициент жёсткости. 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25800" indent="-25956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4c600"/>
                </a:solidFill>
                <a:latin typeface="Century Gothic"/>
              </a:rPr>
              <a:t>Учебник физики – 5 баллов</a:t>
            </a:r>
            <a:br>
              <a:rPr sz="3600"/>
            </a:br>
            <a:r>
              <a:rPr b="1" lang="ru-RU" sz="3600" spc="-1" strike="noStrike">
                <a:solidFill>
                  <a:srgbClr val="94c600"/>
                </a:solidFill>
                <a:latin typeface="Century Gothic"/>
              </a:rPr>
              <a:t>Конкурс болельщиков</a:t>
            </a:r>
            <a:br>
              <a:rPr sz="3600"/>
            </a:b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1. Кто автор учебника?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8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2. Что изображено на обложке учебника?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8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3. Каково содержание форзацев учебника?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8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4. Какова структура учебника?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8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5. Сколько страниц в учебнике?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8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6. Дополнительно, что можете сообщить про учебник физики 7 класса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8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4c600"/>
                </a:solidFill>
                <a:latin typeface="Century Gothic"/>
              </a:rPr>
              <a:t>«Загадки о физиках-учителях» – 5 баллов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e3d2d"/>
                </a:solidFill>
                <a:latin typeface="Century Gothic"/>
              </a:rPr>
              <a:t>Подсказки: угадаете ответ с первой подсказки, получите 5 баллов; 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e3d2d"/>
                </a:solidFill>
                <a:latin typeface="Century Gothic"/>
              </a:rPr>
              <a:t>со второй – 4 балла и т. д.;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ru-RU" sz="2800" spc="-1" strike="noStrike">
                <a:solidFill>
                  <a:srgbClr val="3e3d2d"/>
                </a:solidFill>
                <a:latin typeface="Century Gothic"/>
              </a:rPr>
              <a:t>с последней – 1 балл.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94c600"/>
                </a:solidFill>
                <a:latin typeface="Century Gothic"/>
              </a:rPr>
              <a:t>Загадка первая  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1042560" y="2323800"/>
            <a:ext cx="74898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  <a:ea typeface="Arial"/>
              </a:rPr>
              <a:t>1. Он жил в 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  <a:ea typeface="Arial"/>
              </a:rPr>
              <a:t>IV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  <a:ea typeface="Arial"/>
              </a:rPr>
              <a:t> веке до нашей эры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8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  <a:ea typeface="Arial"/>
              </a:rPr>
              <a:t>2. Он был воспитателем Александра Македонского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8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  <a:ea typeface="Arial"/>
              </a:rPr>
              <a:t>3. «Самая универсальная голова среди древнегреческих философов» (Ф. Энгельс)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8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  <a:ea typeface="Arial"/>
              </a:rPr>
              <a:t>4. Свой принцип динамики он сформулировал так: «Всё, что находится в движении, движется благодаря воздействию другого»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8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  <a:ea typeface="Arial"/>
              </a:rPr>
              <a:t>5. Крёстный отец физики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84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3e3d2d"/>
                </a:solidFill>
                <a:latin typeface="Century Gothic"/>
              </a:rPr>
              <a:t> </a:t>
            </a:r>
            <a:endParaRPr b="0" lang="en-US" sz="10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4c600"/>
                </a:solidFill>
                <a:latin typeface="Century Gothic"/>
              </a:rPr>
              <a:t>Аристотель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64" name="Объект 1" descr=""/>
          <p:cNvPicPr/>
          <p:nvPr/>
        </p:nvPicPr>
        <p:blipFill>
          <a:blip r:embed="rId1"/>
          <a:stretch/>
        </p:blipFill>
        <p:spPr>
          <a:xfrm>
            <a:off x="3213000" y="2330280"/>
            <a:ext cx="265428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94c600"/>
                </a:solidFill>
                <a:latin typeface="Century Gothic"/>
              </a:rPr>
              <a:t>Загадка вторая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1042920" y="2323800"/>
            <a:ext cx="734544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63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1. Родился в селе Деревенском на Рязанщине в 1902 г.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63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2. Диплом учителя математики и физики получил в рязанском учительском институте, завершил образование в МГУ им. Ломоносова.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63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3. Работал в школе-коммуне им. Лепешинского с 1922 по июль 1941 г.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63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4. Долгое время возглавлял  и работал на кафедре методике преподавания физики в МГПИ им. Ленина.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63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5. Он автор учебника по физике для 7класса, по которому вы учитесь.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63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4c600"/>
                </a:solidFill>
                <a:latin typeface="Century Gothic"/>
              </a:rPr>
              <a:t>Пёрышкин А. В.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68" name="Объект 3" descr=""/>
          <p:cNvPicPr/>
          <p:nvPr/>
        </p:nvPicPr>
        <p:blipFill>
          <a:blip r:embed="rId1"/>
          <a:stretch/>
        </p:blipFill>
        <p:spPr>
          <a:xfrm>
            <a:off x="3116160" y="2324160"/>
            <a:ext cx="2826000" cy="376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94c600"/>
                </a:solidFill>
                <a:latin typeface="Century Gothic"/>
              </a:rPr>
              <a:t>Загадка третья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60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e3d2d"/>
                </a:solidFill>
                <a:latin typeface="Century Gothic"/>
              </a:rPr>
              <a:t>1. Открыл атмосферу на Венере.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marL="60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e3d2d"/>
                </a:solidFill>
                <a:latin typeface="Century Gothic"/>
              </a:rPr>
              <a:t>2. В 1775 году при его активном участии был открыт первый русский университет.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marL="60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e3d2d"/>
                </a:solidFill>
                <a:latin typeface="Century Gothic"/>
              </a:rPr>
              <a:t>3. Написал первый русский учебник по минералогии и заложил основы современного стихосложения; руководил составлением карты России, создал мозаичные картины, изготавливал инструменты для морской навигации и построил первую химическую лабораторию в России.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marL="60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e3d2d"/>
                </a:solidFill>
                <a:latin typeface="Century Gothic"/>
              </a:rPr>
              <a:t>4. Он первым стал читать публичные лекции по физике на русском языке.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marL="60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e3d2d"/>
                </a:solidFill>
                <a:latin typeface="Century Gothic"/>
              </a:rPr>
              <a:t>5. Зимой 1731 года двадцати лет отроду, он пришёл с обозом в Москву и только здесь начал учиться.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marL="60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e3d2d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042560" y="105228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4c600"/>
                </a:solidFill>
                <a:latin typeface="Century Gothic"/>
              </a:rPr>
              <a:t>Ломоносов М. В.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72" name="Объект 1" descr=""/>
          <p:cNvPicPr/>
          <p:nvPr/>
        </p:nvPicPr>
        <p:blipFill>
          <a:blip r:embed="rId1"/>
          <a:stretch/>
        </p:blipFill>
        <p:spPr>
          <a:xfrm>
            <a:off x="2930400" y="2324160"/>
            <a:ext cx="3286080" cy="38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94c600"/>
                </a:solidFill>
                <a:latin typeface="Century Gothic"/>
              </a:rPr>
              <a:t>Загадка четвёртая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755640" y="2323800"/>
            <a:ext cx="763272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63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1. Его предок был известный бунтарь Наливайко. Казацкий предводитель конца 16 века. Борец против польской аристократии.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63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2. О себе он говорил: «Я - чистейший материалист. Ничего не признаю, кроме материи».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63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3. С десяти лет глухота его сделала слабым и изгоем.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63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4. О человечестве он говорил, что оно бессмертно и не останется вечно на Земле.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63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5. Родился в селе Ижевском Рязанской губернии, а 40 лет прожил в Калуге, работал учителем и занимался наукой.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63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4c600"/>
                </a:solidFill>
                <a:latin typeface="Century Gothic"/>
              </a:rPr>
              <a:t>Цели урока:</a:t>
            </a:r>
            <a:br>
              <a:rPr sz="3600"/>
            </a:br>
            <a:r>
              <a:rPr b="0" lang="ru-RU" sz="3600" spc="-1" strike="noStrike">
                <a:solidFill>
                  <a:srgbClr val="94c600"/>
                </a:solidFill>
                <a:latin typeface="Century Gothic"/>
              </a:rPr>
              <a:t> 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4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1. Познакомить учащихся с деятельностью учёных физиков, которые в своё время работали учителями;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84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2. Показать наиболее примечательные черты их мироззрения;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84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3. Методы получения научных знаний;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84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4. Сформировать правильное представление о характере научного труда учёных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840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4c600"/>
                </a:solidFill>
                <a:latin typeface="Century Gothic"/>
              </a:rPr>
              <a:t>Циолковский К.Э.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76" name="Picture 7" descr="КРОСФОРД_0002"/>
          <p:cNvPicPr/>
          <p:nvPr/>
        </p:nvPicPr>
        <p:blipFill>
          <a:blip r:embed="rId1"/>
          <a:stretch/>
        </p:blipFill>
        <p:spPr>
          <a:xfrm>
            <a:off x="3325680" y="2324160"/>
            <a:ext cx="2325960" cy="350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4c600"/>
                </a:solidFill>
                <a:latin typeface="Century Gothic"/>
              </a:rPr>
              <a:t>Итоги игры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68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e3d2d"/>
                </a:solidFill>
                <a:latin typeface="Century Gothic"/>
              </a:rPr>
              <a:t>Определение победителей</a:t>
            </a:r>
            <a:endParaRPr b="0" lang="en-US" sz="32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4c600"/>
                </a:solidFill>
                <a:latin typeface="Century Gothic"/>
              </a:rPr>
              <a:t>Литература:</a:t>
            </a:r>
            <a:br>
              <a:rPr sz="3600"/>
            </a:br>
            <a:r>
              <a:rPr b="0" lang="ru-RU" sz="3600" spc="-1" strike="noStrike">
                <a:solidFill>
                  <a:srgbClr val="94c600"/>
                </a:solidFill>
                <a:latin typeface="Century Gothic"/>
              </a:rPr>
              <a:t> 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1. В.А. Волков, С. Е. Полянский. Поурочные разработки по физике. М.: ВАКО, 7-9 кл. 2005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8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2.  Кубеев М. Н. Сто великих имён России.- М.: Вече, 2010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8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4c600"/>
                </a:solidFill>
                <a:latin typeface="Century Gothic"/>
              </a:rPr>
              <a:t>Дополнительно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9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Качественные вопросы: №№ 447, 448, 412, 508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4c600"/>
                </a:solidFill>
                <a:latin typeface="Century Gothic"/>
              </a:rPr>
              <a:t>Содержание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1042560" y="2060640"/>
            <a:ext cx="677700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lvl="1" marL="353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e3d2d"/>
                </a:solidFill>
                <a:latin typeface="Century Gothic"/>
              </a:rPr>
              <a:t>1. Вступительное слово учителя.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662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e3d2d"/>
                </a:solidFill>
                <a:latin typeface="Century Gothic"/>
              </a:rPr>
              <a:t>    </a:t>
            </a:r>
            <a:r>
              <a:rPr b="1" lang="ru-RU" sz="2000" spc="-1" strike="noStrike">
                <a:solidFill>
                  <a:srgbClr val="3e3d2d"/>
                </a:solidFill>
                <a:latin typeface="Century Gothic"/>
              </a:rPr>
              <a:t>2. Задания для команд. 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662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Задание   первое: «Найди правильную дорогу»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662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Задание  второе. Каждая команда рассказывает об учёном-учителе.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662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Задание  третье – экспериментальное: «Динамометр».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662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Задание  четвёртое: «Знаешь ли ты свой учебник физики?»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662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Задание  пятое: «Загадки о физиках-учителях» 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662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(Аристотель, Пёрышкин А. В., , Циолковский К. Э., Ломоносов М. В.)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662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e3d2d"/>
                </a:solidFill>
                <a:latin typeface="Century Gothic"/>
              </a:rPr>
              <a:t>   </a:t>
            </a:r>
            <a:r>
              <a:rPr b="1" lang="ru-RU" sz="2000" spc="-1" strike="noStrike">
                <a:solidFill>
                  <a:srgbClr val="3e3d2d"/>
                </a:solidFill>
                <a:latin typeface="Century Gothic"/>
              </a:rPr>
              <a:t>3. Заключительное слово учителя (итог вечера).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66240">
              <a:lnSpc>
                <a:spcPct val="9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4c600"/>
                </a:solidFill>
                <a:latin typeface="Century Gothic"/>
              </a:rPr>
              <a:t>1. «Найди правильную дорогу» - 5 баллов.</a:t>
            </a:r>
            <a:br>
              <a:rPr sz="3600"/>
            </a:br>
            <a:r>
              <a:rPr b="0" lang="ru-RU" sz="3600" spc="-1" strike="noStrike">
                <a:solidFill>
                  <a:srgbClr val="94c600"/>
                </a:solidFill>
                <a:latin typeface="Century Gothic"/>
              </a:rPr>
              <a:t> 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684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В три столбика выписаны обозначения физических величин, их единицы и названия. Необходимо стрелками соединить каждую физическую величину со своей единицей измерения и названием.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84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4c600"/>
                </a:solidFill>
                <a:latin typeface="Century Gothic"/>
              </a:rPr>
              <a:t>1 команда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graphicFrame>
        <p:nvGraphicFramePr>
          <p:cNvPr id="345" name=""/>
          <p:cNvGraphicFramePr/>
          <p:nvPr/>
        </p:nvGraphicFramePr>
        <p:xfrm>
          <a:off x="971640" y="2324160"/>
          <a:ext cx="6848280" cy="3552840"/>
        </p:xfrm>
        <a:graphic>
          <a:graphicData uri="http://schemas.openxmlformats.org/drawingml/2006/table">
            <a:tbl>
              <a:tblPr/>
              <a:tblGrid>
                <a:gridCol w="2282760"/>
                <a:gridCol w="2282760"/>
                <a:gridCol w="2282760"/>
              </a:tblGrid>
              <a:tr h="107136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Величи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Единица величин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Название величин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</a:tr>
              <a:tr h="6192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Пу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</a:tr>
              <a:tr h="6206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s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м/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Врем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</a:tr>
              <a:tr h="6210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Скор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</a:tr>
              <a:tr h="6206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Си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4c600"/>
                </a:solidFill>
                <a:latin typeface="Century Gothic"/>
              </a:rPr>
              <a:t>2 команда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graphicFrame>
        <p:nvGraphicFramePr>
          <p:cNvPr id="347" name=""/>
          <p:cNvGraphicFramePr/>
          <p:nvPr/>
        </p:nvGraphicFramePr>
        <p:xfrm>
          <a:off x="971640" y="2324160"/>
          <a:ext cx="6848280" cy="3698640"/>
        </p:xfrm>
        <a:graphic>
          <a:graphicData uri="http://schemas.openxmlformats.org/drawingml/2006/table">
            <a:tbl>
              <a:tblPr/>
              <a:tblGrid>
                <a:gridCol w="2282760"/>
                <a:gridCol w="2282760"/>
                <a:gridCol w="2282760"/>
              </a:tblGrid>
              <a:tr h="7398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Величи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Единица величин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Название величин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</a:tr>
              <a:tr h="7398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Объё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</a:tr>
              <a:tr h="7398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м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Давл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</a:tr>
              <a:tr h="7398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П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Площад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</a:tr>
              <a:tr h="7394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м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Удлинени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042560" y="6919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4c600"/>
                </a:solidFill>
                <a:latin typeface="Century Gothic"/>
              </a:rPr>
              <a:t>Биография учёного – </a:t>
            </a:r>
            <a:br>
              <a:rPr sz="3600"/>
            </a:br>
            <a:r>
              <a:rPr b="1" lang="ru-RU" sz="3600" spc="-1" strike="noStrike">
                <a:solidFill>
                  <a:srgbClr val="94c600"/>
                </a:solidFill>
                <a:latin typeface="Century Gothic"/>
              </a:rPr>
              <a:t>5 баллов.</a:t>
            </a:r>
            <a:br>
              <a:rPr sz="3600"/>
            </a:b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684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Каждая команда рассказывает об учёном-учителе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84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4c600"/>
                </a:solidFill>
                <a:latin typeface="Century Gothic"/>
              </a:rPr>
              <a:t>Учёные-педагоги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51" name="Объект 3" descr=""/>
          <p:cNvPicPr/>
          <p:nvPr/>
        </p:nvPicPr>
        <p:blipFill>
          <a:blip r:embed="rId1"/>
          <a:stretch/>
        </p:blipFill>
        <p:spPr>
          <a:xfrm>
            <a:off x="3203640" y="2349360"/>
            <a:ext cx="2622600" cy="34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4c600"/>
                </a:solidFill>
                <a:latin typeface="Century Gothic"/>
              </a:rPr>
              <a:t>Учёные-педагоги 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53" name="Picture 7" descr="КРОСФОРД_0002"/>
          <p:cNvPicPr/>
          <p:nvPr/>
        </p:nvPicPr>
        <p:blipFill>
          <a:blip r:embed="rId1"/>
          <a:stretch/>
        </p:blipFill>
        <p:spPr>
          <a:xfrm>
            <a:off x="3203640" y="2349360"/>
            <a:ext cx="2663640" cy="376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2T10:52:33Z</dcterms:created>
  <dc:creator>Кузьмина</dc:creator>
  <dc:description/>
  <dc:language>en-US</dc:language>
  <cp:lastModifiedBy>Ольга</cp:lastModifiedBy>
  <dcterms:modified xsi:type="dcterms:W3CDTF">2015-07-02T14:52:42Z</dcterms:modified>
  <cp:revision>17</cp:revision>
  <dc:subject/>
  <dc:title>Презентация PowerPoint</dc:title>
</cp:coreProperties>
</file>